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D02-B1E3-4584-AFB2-FA50208B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EF7-7ABD-4E32-9401-85F2AD39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B2B-4E5D-4C02-8A89-4F286FAC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8A4-284A-4DF0-9C7D-2D8CCAD0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91F-DDF7-4844-8BD1-80ED5D0E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396-34E7-45A3-850E-86B82FD0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3CF-266D-4687-85D0-DD9D8F2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4C5-A2E0-4D7C-9071-B75E0327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DDD-09E0-4906-957F-1D75FB0E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FBD-C3E0-4BD0-BA56-CE20B45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B26-4445-47F5-98A3-7850A33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E29-8ED7-4246-9623-E045397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45B32-A181-4A06-9FB7-DDEC05CF81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5E570-48B4-487B-8910-5DBE3CA64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507960" y="166356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07960" y="257796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380240" y="179712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emale (Un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381320" y="26654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le (Un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507960" y="35686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395000" y="372744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emale (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07960" y="448308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1396080" y="45705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le (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507960" y="5462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507960" y="6377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1393560" y="56196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emale (Carr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1394640" y="646416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le (Carr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>
            <a:off x="768240" y="6638760"/>
            <a:ext cx="158760" cy="16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507960" y="72914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507960" y="82058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1354680" y="7448400"/>
            <a:ext cx="34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emale (Unaffected Dec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1355760" y="82929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le (Unaffected Dec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4"/>
          <p:cNvSpPr/>
          <p:nvPr/>
        </p:nvSpPr>
        <p:spPr>
          <a:xfrm flipH="1">
            <a:off x="507600" y="72907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6"/>
          <p:cNvSpPr/>
          <p:nvPr/>
        </p:nvSpPr>
        <p:spPr>
          <a:xfrm flipH="1">
            <a:off x="415800" y="8123400"/>
            <a:ext cx="866880" cy="8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3"/>
          <p:cNvSpPr/>
          <p:nvPr/>
        </p:nvSpPr>
        <p:spPr>
          <a:xfrm>
            <a:off x="774720" y="5724360"/>
            <a:ext cx="158760" cy="16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1632960" y="444600"/>
            <a:ext cx="40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uman Pedigre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1"/>
          <p:cNvSpPr/>
          <p:nvPr/>
        </p:nvSpPr>
        <p:spPr>
          <a:xfrm>
            <a:off x="3294000" y="16542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86120" y="16556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"/>
          <p:cNvSpPr/>
          <p:nvPr/>
        </p:nvSpPr>
        <p:spPr>
          <a:xfrm flipV="1">
            <a:off x="2671920" y="1996560"/>
            <a:ext cx="622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9"/>
          <p:cNvSpPr/>
          <p:nvPr/>
        </p:nvSpPr>
        <p:spPr>
          <a:xfrm flipH="1" flipV="1">
            <a:off x="3005280" y="1995120"/>
            <a:ext cx="144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1"/>
          <p:cNvSpPr/>
          <p:nvPr/>
        </p:nvSpPr>
        <p:spPr>
          <a:xfrm>
            <a:off x="1154160" y="2523960"/>
            <a:ext cx="390060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 flipH="1" flipV="1">
            <a:off x="1168560" y="2523600"/>
            <a:ext cx="1440" cy="52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7"/>
          <p:cNvSpPr/>
          <p:nvPr/>
        </p:nvSpPr>
        <p:spPr>
          <a:xfrm flipH="1" flipV="1">
            <a:off x="5043600" y="2536560"/>
            <a:ext cx="144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8"/>
          <p:cNvSpPr/>
          <p:nvPr/>
        </p:nvSpPr>
        <p:spPr>
          <a:xfrm flipH="1" flipV="1">
            <a:off x="3007800" y="2536560"/>
            <a:ext cx="180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658960" y="30592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824040" y="30448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3"/>
          <p:cNvSpPr/>
          <p:nvPr/>
        </p:nvSpPr>
        <p:spPr>
          <a:xfrm>
            <a:off x="4697280" y="30574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4089240" y="946080"/>
            <a:ext cx="2603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f possible, male partner should be placed left of female partner on relationship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349560" y="18478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307440" y="31813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272880" y="4070520"/>
            <a:ext cx="591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blings should be listed left to right in birth order (oldest to younges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8"/>
          <p:cNvSpPr/>
          <p:nvPr/>
        </p:nvSpPr>
        <p:spPr>
          <a:xfrm>
            <a:off x="843120" y="68230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9"/>
          <p:cNvSpPr/>
          <p:nvPr/>
        </p:nvSpPr>
        <p:spPr>
          <a:xfrm>
            <a:off x="1986120" y="68166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0"/>
          <p:cNvSpPr/>
          <p:nvPr/>
        </p:nvSpPr>
        <p:spPr>
          <a:xfrm flipH="1" flipV="1">
            <a:off x="1752120" y="6260760"/>
            <a:ext cx="576360" cy="55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2"/>
          <p:cNvSpPr/>
          <p:nvPr/>
        </p:nvSpPr>
        <p:spPr>
          <a:xfrm flipV="1">
            <a:off x="1185840" y="6248520"/>
            <a:ext cx="57960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9"/>
          <p:cNvSpPr/>
          <p:nvPr/>
        </p:nvSpPr>
        <p:spPr>
          <a:xfrm>
            <a:off x="3490920" y="68230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0"/>
          <p:cNvSpPr/>
          <p:nvPr/>
        </p:nvSpPr>
        <p:spPr>
          <a:xfrm>
            <a:off x="4633920" y="68166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41"/>
          <p:cNvSpPr/>
          <p:nvPr/>
        </p:nvSpPr>
        <p:spPr>
          <a:xfrm flipH="1" flipV="1">
            <a:off x="4400640" y="6260760"/>
            <a:ext cx="576000" cy="55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2"/>
          <p:cNvSpPr/>
          <p:nvPr/>
        </p:nvSpPr>
        <p:spPr>
          <a:xfrm flipV="1">
            <a:off x="3833640" y="6248520"/>
            <a:ext cx="57960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3"/>
          <p:cNvSpPr/>
          <p:nvPr/>
        </p:nvSpPr>
        <p:spPr>
          <a:xfrm flipV="1">
            <a:off x="1452600" y="6568560"/>
            <a:ext cx="62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4"/>
          <p:cNvSpPr/>
          <p:nvPr/>
        </p:nvSpPr>
        <p:spPr>
          <a:xfrm>
            <a:off x="801720" y="791208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onozyg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Identical Tw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5"/>
          <p:cNvSpPr/>
          <p:nvPr/>
        </p:nvSpPr>
        <p:spPr>
          <a:xfrm>
            <a:off x="3183840" y="7912080"/>
            <a:ext cx="24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zyg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Non-identical Tw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0" y="977760"/>
            <a:ext cx="15462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Roman Numer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3"/>
          <p:cNvSpPr/>
          <p:nvPr/>
        </p:nvSpPr>
        <p:spPr>
          <a:xfrm>
            <a:off x="2190600" y="12700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lationship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4"/>
          <p:cNvSpPr/>
          <p:nvPr/>
        </p:nvSpPr>
        <p:spPr>
          <a:xfrm>
            <a:off x="1383840" y="287028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bship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5"/>
          <p:cNvSpPr/>
          <p:nvPr/>
        </p:nvSpPr>
        <p:spPr>
          <a:xfrm>
            <a:off x="4255200" y="198108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ine of Des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3343680" y="287028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dividual’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Curved Connector 38"/>
          <p:cNvCxnSpPr>
            <a:stCxn id="89" idx="2"/>
          </p:cNvCxnSpPr>
          <p:nvPr/>
        </p:nvCxnSpPr>
        <p:spPr>
          <a:xfrm flipH="1" rot="16200000">
            <a:off x="2878200" y="1696680"/>
            <a:ext cx="378720" cy="140400"/>
          </a:xfrm>
          <a:prstGeom prst="curvedConnector5">
            <a:avLst>
              <a:gd name="adj1" fmla="val 49952"/>
              <a:gd name="adj2" fmla="val 49871"/>
              <a:gd name="adj3" fmla="val 49952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Curved Connector 48"/>
          <p:cNvCxnSpPr>
            <a:stCxn id="91" idx="1"/>
          </p:cNvCxnSpPr>
          <p:nvPr/>
        </p:nvCxnSpPr>
        <p:spPr>
          <a:xfrm flipV="1" rot="10800000">
            <a:off x="3034440" y="2134080"/>
            <a:ext cx="1245600" cy="291240"/>
          </a:xfrm>
          <a:prstGeom prst="curvedConnector5">
            <a:avLst>
              <a:gd name="adj1" fmla="val 20381"/>
              <a:gd name="adj2" fmla="val 50000"/>
              <a:gd name="adj3" fmla="val 20381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92"/>
          <p:cNvCxnSpPr/>
          <p:nvPr/>
        </p:nvCxnSpPr>
        <p:spPr>
          <a:xfrm flipV="1">
            <a:off x="1967400" y="2539800"/>
            <a:ext cx="13320" cy="44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Straight Arrow Connector 105"/>
          <p:cNvCxnSpPr/>
          <p:nvPr/>
        </p:nvCxnSpPr>
        <p:spPr>
          <a:xfrm flipH="1" flipV="1">
            <a:off x="3047400" y="2805840"/>
            <a:ext cx="394200" cy="165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08"/>
          <p:cNvCxnSpPr/>
          <p:nvPr/>
        </p:nvCxnSpPr>
        <p:spPr>
          <a:xfrm flipV="1">
            <a:off x="4698720" y="2716920"/>
            <a:ext cx="292680" cy="28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Straight Arrow Connector 111"/>
          <p:cNvCxnSpPr/>
          <p:nvPr/>
        </p:nvCxnSpPr>
        <p:spPr>
          <a:xfrm flipH="1">
            <a:off x="558360" y="1460160"/>
            <a:ext cx="102240" cy="470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Box 120"/>
          <p:cNvSpPr/>
          <p:nvPr/>
        </p:nvSpPr>
        <p:spPr>
          <a:xfrm>
            <a:off x="603360" y="5530680"/>
            <a:ext cx="35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dividual’s Line for T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1"/>
          <p:cNvSpPr/>
          <p:nvPr/>
        </p:nvSpPr>
        <p:spPr>
          <a:xfrm>
            <a:off x="519120" y="6094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xample of Human Pedi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551520" y="8648640"/>
            <a:ext cx="614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Bennett,R.L., Steinhaus French,K., Resta,R.G. and Doyle,D.L. 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‘</a:t>
            </a: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Standardized Human Pedigree Nomenclature: Update and Assessment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s of the National Society of Genetic Counselors.’ </a:t>
            </a:r>
            <a:r>
              <a:rPr b="0" i="1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Journal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Counseling,</a:t>
            </a: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 vol. 17, pp. 424-4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6:38:28Z</dcterms:created>
  <dc:creator>Clinton Hale</dc:creator>
  <dc:description/>
  <cp:keywords/>
  <dc:language>en-US</dc:language>
  <cp:lastModifiedBy>Barry Deitch</cp:lastModifiedBy>
  <cp:lastPrinted>2009-03-07T07:24:28Z</cp:lastPrinted>
  <dcterms:modified xsi:type="dcterms:W3CDTF">2009-05-02T12:20:05Z</dcterms:modified>
  <cp:revision>22</cp:revision>
  <dc:subject/>
  <dc:title>Pedigree Symbols</dc:title>
</cp:coreProperties>
</file>